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6.jpeg" ContentType="image/jpeg"/>
  <Override PartName="/ppt/media/image27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3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4.gif" ContentType="image/gif"/>
  <Override PartName="/ppt/media/image15.png" ContentType="image/png"/>
  <Override PartName="/ppt/media/image16.png" ContentType="image/png"/>
  <Override PartName="/ppt/media/image18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19.wmf" ContentType="image/x-wmf"/>
  <Override PartName="/ppt/media/image10.jpeg" ContentType="image/jpeg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9124920"/>
            <a:ext cx="6359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Developed by the Department of Science and Environmental Stud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5EB9-3910-4D5B-9F2C-2EF3CCE339D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blog.friendseat.com/los-angeles-bans-plastic-bags-at-supermarkets" TargetMode="External"/><Relationship Id="rId2" Type="http://schemas.openxmlformats.org/officeDocument/2006/relationships/hyperlink" Target="http://orientaldaily.on.cc/cnt/news/20090718/00176_099.html" TargetMode="External"/><Relationship Id="rId3" Type="http://schemas.openxmlformats.org/officeDocument/2006/relationships/hyperlink" Target="http://stu.hksyu.edu/~shuo/shuoV2/viewEntry.php?entryID=n2008041483" TargetMode="External"/><Relationship Id="rId4" Type="http://schemas.openxmlformats.org/officeDocument/2006/relationships/hyperlink" Target="http://www.ccckeiwan.edu.hk/student_con/sci/greenlife/green_1112_02.htm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58BC-25D0-4F63-9B88-F0D9673833C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回收率高／低 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低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「塑膠廢物回收率極低」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2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街頭垃圾桶及回收桶比例嚴重失衡，平均每二十個垃圾桶才有一個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回收桶的蓋沒有人清洗，十分骯髒，令人不想使用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市民對回收塑膠意識不足，誤以為只得膠樽可回收，將多數可回收塑膠直扔垃圾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A48-913F-4003-AC48-C2BFC9CCF50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7D2-8DB2-4956-9FA1-D4B1D52EEA9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師幫助學生整合在課節一和二所談及，導致堆填區飽和的原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個人行為意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和使用塑膠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外在條件限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收塑膠認知不足、分類知識不足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how.com/how_10018260_calculate-leaching-landfill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0410-1DEB-4D17-A66C-F207EC3011B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我們能在堆填區裡找到哪些塑膠製品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它們是否真的是廢物？沒用？沒有價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它們還有價值，那又為甚麼仍會被棄置在堆填區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廢物對環境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640-56EA-4C26-AE60-05675ED6BE6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以問題及圖像，引導學生思考人們使用塑膠的原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方向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連繋塑膠使用與人們的生活方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問題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超級市場購物時，有沒有自備購物袋？還是會貪方便濫用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你在沒有自備購物袋的情況下，看見想買的東西，又不想濫用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推行膠袋徴費後，你們有否在超級市場拿大量免費提供的保鮮膠袋，來代替需徵費的膠袋盛載所購買的物品？這是出於甚麼心態？貪方便？慳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利用保鮮膠袋袋蔬果，膠袋可以因蔬果的重量而穿洞，有些人會因而使用兩個保鮮膠袋，你認為這些確保安全還是浪費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自備餐具外出用膳／開派對？還是會怕麻煩，使用即用即棄的塑膠餐具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在你放學回家途中，家人請你到快餐店替他買一個下午茶外賣回家，而快餐店一定會使用發泡膠盒作為外賣盒，那你會選擇幫助家人還是環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有沒有自備水樽的習慣？還是習慣到處購買膠樽裝飲料，製造大量膠樽垃圾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很想飲可樂，但買可樂便會製造膠樽垃圾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每天購買報紙時，是否會怕弄污雙手而使用報紙檔提供的膠袋？每天如是的話，知否會耗用多少塑膠？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購買報紙時，報紙檔已預先把報紙用膠袋袋好，你會直接把袋裝報紙拿走，或是把膠袋脫下交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麵包店購買麵包時，會用多少膠袋包裝麵包？會否用多於一個膠袋？這又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跟朋友一起到麵包店購買麵包，每人一個膠袋會方便大家吃麵包，但會多浪費一個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購買生產商預先用膠袋包裝好的散件貨品，以方便攜帶？哪些散件貨品其實是否必須要用膠袋包裝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一袋四支裝的飲品會比分別買四支飲品便宜，但會多浪費一個膠袋，你會選購哪一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或你們的父母會否為求方便或感覺較乾淨衞生，而選擇到超級市場購買用保鮮紙獨立包裝的蔬果？如此包裝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答案歸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log.friendseat.com/los-angeles-bans-plastic-bags-at-super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ldaily.on.cc/cnt/news/20090718/00176_099.html#para5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u.hksyu.edu/~shuo/shuoV2/viewEntry.php?entryID=n20080414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cckeiwan.edu.hk/student_con/sci/greenlife/green_1112_02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uhkacs.org/~henryporter/blog/tag.php?tag=%E7%92%B0%E4%BF%9D%E7%B4%85%E8%A1%9B%E5%85%B5&amp;mode=&amp;mod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eehugger.com/corporate-responsibility/rural-north-carolinians-adapting-to-landfill-plastic-bottle-ba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xelein.mysinablog.com/index.php?op=Default&amp;Date=2009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yuuji.wordpress.com/tag/eal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FE10-2116-4EC1-95F4-5C488CA824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6E93-575A-4DBA-A6C8-19582EC9B38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CAB8-992E-483F-874B-A66D99F46AC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94C-40CB-4C47-9F71-59E0F504A64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3C5-AC0F-47A9-B5BF-F88F118F366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EB427-646C-465D-8BFA-FBB41DC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62F97-23E3-456E-9870-426EA09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03B95-027D-4008-85CA-898A7DF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6D4F3-E39C-43AB-9CA0-FF23D4C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13632-7566-4F57-96D9-3C62379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7569F-DF37-483D-A872-D374666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9B5B0-61F8-4DEC-A0DE-0F29209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71065-F159-4F3D-AE63-133D59C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44DF1-C541-48E4-B1A3-D2BB11EB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59776-53C3-4534-AB0F-B1D28FC0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5047B-6272-4B7E-86BF-66F23AE1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7F612-761B-4625-885B-144ED949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12372-3189-48A6-ADC1-DEF77536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F01B9-101A-467D-AF63-174BEAEC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AF3C4-0E05-46E5-B691-BDAB62DD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81B3C-B113-4686-ABE5-476BEFA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12F65-4852-4733-AC95-5178E12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80382-87CB-46FC-9785-180EA2C5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F770B-3E43-4173-AEE3-267FA97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D4A32-4E37-4A1D-A523-3A5C7E0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A34ED-ACA7-4E7B-8EFC-DA7FA7D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84F38-93D6-4ED4-A117-30C5AE5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3A6F8-F9A8-4A56-A113-22EB566C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2561A-F664-4A70-9CD4-258A37EB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F1BE-5119-41CA-B7BD-4C4A5CEC6343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10F-645B-48B2-A7DD-56533996B34D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843-C453-4345-832E-07A31E6C74B3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599-D163-4CEC-884C-9ADCBED3A774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ADD-B9D3-478C-90A1-5F63ED3BE70C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DDEA-FAD3-4509-A70C-7DBDC0AB8731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pd.gov.hk/epd/tc_chi/environmentinhk/waste/prob_solutions/msw_racl.html" TargetMode="External"/><Relationship Id="rId3" Type="http://schemas.openxmlformats.org/officeDocument/2006/relationships/hyperlink" Target="http://www.epd.gov.hk/epd/tc_chi/environmentinhk/waste/prob_solutions/msw_racl.html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nent.html" TargetMode="External"/><Relationship Id="rId4" Type="http://schemas.openxmlformats.org/officeDocument/2006/relationships/hyperlink" Target="http://www.epd.gov.hk/epd/tc_chi/environmentinhk/waste/prob_solutions/msw_nent.html" TargetMode="External"/><Relationship Id="rId5" Type="http://schemas.openxmlformats.org/officeDocument/2006/relationships/hyperlink" Target="http://www.epd.gov.hk/epd/tc_chi/environmentinhk/waste/prob_solutions/msw_racl.html" TargetMode="External"/><Relationship Id="rId6" Type="http://schemas.openxmlformats.org/officeDocument/2006/relationships/hyperlink" Target="http://www.epd.gov.hk/epd/tc_chi/environmentinhk/waste/prob_solutions/msw_strategic.html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d.gov.hk/epd/tc_chi/environmentinhk/waste/prob_solutions/msw_racl.html" TargetMode="External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sent.html" TargetMode="External"/><Relationship Id="rId4" Type="http://schemas.openxmlformats.org/officeDocument/2006/relationships/hyperlink" Target="http://www.epd.gov.hk/epd/tc_chi/environmentinhk/waste/prob_solutions/msw_went.html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www.epd.gov.hk/epd/tc_chi/environmentinhk/waste/prob_solutions/msw_nent.html" TargetMode="External"/><Relationship Id="rId7" Type="http://schemas.openxmlformats.org/officeDocument/2006/relationships/hyperlink" Target="http://www.epd.gov.hk/epd/tc_chi/environmentinhk/waste/prob_solutions/msw_nent.html" TargetMode="External"/><Relationship Id="rId8" Type="http://schemas.openxmlformats.org/officeDocument/2006/relationships/hyperlink" Target="http://www.epd.gov.hk/epd/tc_chi/environmentinhk/waste/prob_solutions/msw_nent.html" TargetMode="External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the-sun.on.cc/cnt/news/20120502/00407_023.html?pubdate=20120502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D31F-C29B-4036-ACCD-E3BAFB5D74D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和二：塑膠廢物從何來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6" name="Picture 3" descr="D:\Temp\Temporary Internet Files\Content.IE5\FJTRQHA2\MC900238208[1].wmf"/>
          <p:cNvPicPr/>
          <p:nvPr/>
        </p:nvPicPr>
        <p:blipFill>
          <a:blip r:embed="rId1"/>
          <a:stretch/>
        </p:blipFill>
        <p:spPr>
          <a:xfrm>
            <a:off x="4859280" y="2997360"/>
            <a:ext cx="2881440" cy="3408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37"/>
          <p:cNvSpPr/>
          <p:nvPr/>
        </p:nvSpPr>
        <p:spPr>
          <a:xfrm>
            <a:off x="1042920" y="549360"/>
            <a:ext cx="5545080" cy="1008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  <a:ea typeface="新細明體"/>
              </a:rPr>
              <a:t>塑膠廢物的回收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圖片 34" descr="C:\Users\fa\AppData\Local\Microsoft\Windows\Temporary Internet Files\Content.IE5\YECB24O5\MC900215197[1].wmf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43" name="圖片 35" descr="C:\Users\fa\AppData\Local\Microsoft\Windows\Temporary Internet Files\Content.IE5\33KN794B\MC900304047[1].wmf"/>
          <p:cNvPicPr/>
          <p:nvPr/>
        </p:nvPicPr>
        <p:blipFill>
          <a:blip r:embed="rId2"/>
          <a:stretch/>
        </p:blipFill>
        <p:spPr>
          <a:xfrm>
            <a:off x="6227640" y="404640"/>
            <a:ext cx="722520" cy="14176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8"/>
          <p:cNvSpPr/>
          <p:nvPr/>
        </p:nvSpPr>
        <p:spPr>
          <a:xfrm>
            <a:off x="1979640" y="3213000"/>
            <a:ext cx="5761080" cy="2232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</a:rPr>
              <a:t>為甚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826920" y="1773360"/>
            <a:ext cx="4249800" cy="1079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回收率高／低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圖片 36" descr="C:\Users\fa\AppData\Local\Microsoft\Windows\Temporary Internet Files\Content.IE5\N0QKX2ZJ\MM900356589[1].gif"/>
          <p:cNvPicPr/>
          <p:nvPr/>
        </p:nvPicPr>
        <p:blipFill>
          <a:blip r:embed="rId3"/>
          <a:stretch/>
        </p:blipFill>
        <p:spPr>
          <a:xfrm>
            <a:off x="395280" y="2924280"/>
            <a:ext cx="1685880" cy="1512720"/>
          </a:xfrm>
          <a:prstGeom prst="rect">
            <a:avLst/>
          </a:prstGeom>
          <a:ln w="0">
            <a:noFill/>
          </a:ln>
        </p:spPr>
      </p:pic>
      <p:pic>
        <p:nvPicPr>
          <p:cNvPr id="247" name="圖片 25" descr="plastic.gif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raph 1.jpg"/>
          <p:cNvPicPr/>
          <p:nvPr/>
        </p:nvPicPr>
        <p:blipFill>
          <a:blip r:embed="rId5"/>
          <a:stretch/>
        </p:blipFill>
        <p:spPr>
          <a:xfrm>
            <a:off x="4011480" y="1731960"/>
            <a:ext cx="2486160" cy="1676520"/>
          </a:xfrm>
          <a:prstGeom prst="rect">
            <a:avLst/>
          </a:prstGeom>
          <a:ln w="0">
            <a:noFill/>
          </a:ln>
        </p:spPr>
      </p:pic>
      <p:sp>
        <p:nvSpPr>
          <p:cNvPr id="249" name="Oval 15"/>
          <p:cNvSpPr/>
          <p:nvPr/>
        </p:nvSpPr>
        <p:spPr>
          <a:xfrm>
            <a:off x="2987640" y="2205000"/>
            <a:ext cx="576360" cy="6476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D:\Temp\Temporary Internet Files\Content.IE5\Q1PSUET3\MC900040383[1].wmf"/>
          <p:cNvPicPr/>
          <p:nvPr/>
        </p:nvPicPr>
        <p:blipFill>
          <a:blip r:embed="rId6"/>
          <a:stretch/>
        </p:blipFill>
        <p:spPr>
          <a:xfrm>
            <a:off x="6875640" y="2781360"/>
            <a:ext cx="1753920" cy="1824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Temp\Temporary Internet Files\Content.IE5\Q1PSUET3\MC900441902[1].wmf"/>
          <p:cNvPicPr/>
          <p:nvPr/>
        </p:nvPicPr>
        <p:blipFill>
          <a:blip r:embed="rId7"/>
          <a:stretch/>
        </p:blipFill>
        <p:spPr>
          <a:xfrm>
            <a:off x="5148360" y="3789360"/>
            <a:ext cx="1520640" cy="1797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2124000" y="3789360"/>
            <a:ext cx="295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回收設施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條件欠衛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理解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未建立回收習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A013-181D-4949-AF77-5FABE1E1B5B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7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D52-2CFE-47FC-802D-1DB4AF600AEE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猜一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矩形圖說文字 4"/>
          <p:cNvSpPr/>
          <p:nvPr/>
        </p:nvSpPr>
        <p:spPr>
          <a:xfrm>
            <a:off x="1692360" y="907920"/>
            <a:ext cx="6983280" cy="865440"/>
          </a:xfrm>
          <a:prstGeom prst="wedgeRectCallout">
            <a:avLst>
              <a:gd name="adj1" fmla="val -36685"/>
              <a:gd name="adj2" fmla="val -89472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小朋友，你們知道香港有多少個堆填區已被填滿</a:t>
            </a: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Image of map"/>
          <p:cNvPicPr/>
          <p:nvPr/>
        </p:nvPicPr>
        <p:blipFill>
          <a:blip r:embed="rId1"/>
          <a:stretch/>
        </p:blipFill>
        <p:spPr>
          <a:xfrm>
            <a:off x="593640" y="1824120"/>
            <a:ext cx="8010720" cy="4773600"/>
          </a:xfrm>
          <a:prstGeom prst="rect">
            <a:avLst/>
          </a:prstGeom>
          <a:ln w="0">
            <a:noFill/>
          </a:ln>
        </p:spPr>
      </p:pic>
      <p:sp>
        <p:nvSpPr>
          <p:cNvPr id="260" name="七角星形 6"/>
          <p:cNvSpPr/>
          <p:nvPr/>
        </p:nvSpPr>
        <p:spPr>
          <a:xfrm>
            <a:off x="324000" y="4221000"/>
            <a:ext cx="3024000" cy="2087640"/>
          </a:xfrm>
          <a:prstGeom prst="pie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omic Sans MS"/>
              </a:rPr>
              <a:t>１３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6569280"/>
            <a:ext cx="6516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pd.gov.hk/epd/tc_chi/environmentinhk/waste/prob_solutions/msw_rac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0"/>
          <p:cNvSpPr/>
          <p:nvPr/>
        </p:nvSpPr>
        <p:spPr>
          <a:xfrm>
            <a:off x="7740720" y="6237360"/>
            <a:ext cx="946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3AF6-5F65-4A44-94CD-6ACA7219799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95280" y="981000"/>
            <a:ext cx="7777080" cy="5616720"/>
            <a:chOff x="395280" y="981000"/>
            <a:chExt cx="7777080" cy="5616720"/>
          </a:xfrm>
        </p:grpSpPr>
        <p:pic>
          <p:nvPicPr>
            <p:cNvPr id="265" name="內容版面配置區 10" descr="map_landf.gif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777708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字方塊 6"/>
            <p:cNvSpPr/>
            <p:nvPr/>
          </p:nvSpPr>
          <p:spPr>
            <a:xfrm>
              <a:off x="4140000" y="193716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2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字方塊 7"/>
            <p:cNvSpPr/>
            <p:nvPr/>
          </p:nvSpPr>
          <p:spPr>
            <a:xfrm>
              <a:off x="1187280" y="3187080"/>
              <a:ext cx="15843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3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字方塊 8"/>
            <p:cNvSpPr/>
            <p:nvPr/>
          </p:nvSpPr>
          <p:spPr>
            <a:xfrm>
              <a:off x="5580000" y="495072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4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6569280"/>
            <a:ext cx="7740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ttp://www.epd.gov.hk/epd/tc_chi/environmentinhk/waste/prob_solutions/msw_strateg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十角星形 7"/>
          <p:cNvSpPr/>
          <p:nvPr/>
        </p:nvSpPr>
        <p:spPr>
          <a:xfrm>
            <a:off x="7020000" y="3284640"/>
            <a:ext cx="1873080" cy="17287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３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圖說文字 4"/>
          <p:cNvSpPr/>
          <p:nvPr/>
        </p:nvSpPr>
        <p:spPr>
          <a:xfrm>
            <a:off x="1476360" y="44280"/>
            <a:ext cx="6480360" cy="936720"/>
          </a:xfrm>
          <a:prstGeom prst="wedgeRectCallout">
            <a:avLst>
              <a:gd name="adj1" fmla="val 62226"/>
              <a:gd name="adj2" fmla="val -46064"/>
            </a:avLst>
          </a:prstGeom>
          <a:solidFill>
            <a:srgbClr val="ccc1da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那你們又知道現時香港有多少個堆填區嗎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5981400"/>
            <a:ext cx="66596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資料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epd.gov.hk/epd/tc_chi/environmentinhk/waste/prob_solutions/msw_n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ttp://www.epd.gov.hk/epd/tc_chi/environmentinhk/waste/prob_solutions/msw_s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epd.gov.hk/epd/tc_chi/environmentinhk/waste/prob_solutions/msw_w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內容版面配置區 8"/>
          <p:cNvSpPr/>
          <p:nvPr/>
        </p:nvSpPr>
        <p:spPr>
          <a:xfrm>
            <a:off x="2484360" y="115920"/>
            <a:ext cx="5832720" cy="865080"/>
          </a:xfrm>
          <a:prstGeom prst="wedgeRectCallout">
            <a:avLst>
              <a:gd name="adj1" fmla="val -55819"/>
              <a:gd name="adj2" fmla="val -37717"/>
            </a:avLst>
          </a:prstGeom>
          <a:solidFill>
            <a:srgbClr val="8eb4e3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你們估計它們將在何時飽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900000" y="1052640"/>
            <a:ext cx="7704360" cy="5113080"/>
            <a:chOff x="900000" y="1052640"/>
            <a:chExt cx="7704360" cy="5113080"/>
          </a:xfrm>
        </p:grpSpPr>
        <p:pic>
          <p:nvPicPr>
            <p:cNvPr id="280" name="內容版面配置區 10" descr="map_landf.gif"/>
            <p:cNvPicPr/>
            <p:nvPr/>
          </p:nvPicPr>
          <p:blipFill>
            <a:blip r:embed="rId5"/>
            <a:stretch/>
          </p:blipFill>
          <p:spPr>
            <a:xfrm>
              <a:off x="900000" y="1052640"/>
              <a:ext cx="770436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字方塊 6"/>
            <p:cNvSpPr/>
            <p:nvPr/>
          </p:nvSpPr>
          <p:spPr>
            <a:xfrm>
              <a:off x="4572000" y="1844640"/>
              <a:ext cx="187164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6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字方塊 7"/>
            <p:cNvSpPr/>
            <p:nvPr/>
          </p:nvSpPr>
          <p:spPr>
            <a:xfrm>
              <a:off x="1692000" y="2997360"/>
              <a:ext cx="156852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7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字方塊 8"/>
            <p:cNvSpPr/>
            <p:nvPr/>
          </p:nvSpPr>
          <p:spPr>
            <a:xfrm>
              <a:off x="6012000" y="4581720"/>
              <a:ext cx="17841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8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線圖說文字 1 10"/>
          <p:cNvSpPr/>
          <p:nvPr/>
        </p:nvSpPr>
        <p:spPr>
          <a:xfrm>
            <a:off x="4643280" y="242100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-57981"/>
              <a:gd name="adj4" fmla="val 3806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６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圖說文字 1 15"/>
          <p:cNvSpPr/>
          <p:nvPr/>
        </p:nvSpPr>
        <p:spPr>
          <a:xfrm>
            <a:off x="4643280" y="2852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92722"/>
              <a:gd name="adj4" fmla="val -826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８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圖說文字 1 16"/>
          <p:cNvSpPr/>
          <p:nvPr/>
        </p:nvSpPr>
        <p:spPr>
          <a:xfrm>
            <a:off x="4643280" y="3284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361101"/>
              <a:gd name="adj4" fmla="val 10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４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13"/>
          <p:cNvSpPr/>
          <p:nvPr/>
        </p:nvSpPr>
        <p:spPr>
          <a:xfrm>
            <a:off x="6659640" y="6381720"/>
            <a:ext cx="94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0F2-2A58-4657-B934-69EF7F33AA8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213372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因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個人行為意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外在條件限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內容版面配置區 8"/>
          <p:cNvSpPr/>
          <p:nvPr/>
        </p:nvSpPr>
        <p:spPr>
          <a:xfrm>
            <a:off x="755640" y="333360"/>
            <a:ext cx="7561440" cy="1224000"/>
          </a:xfrm>
          <a:prstGeom prst="wedgeRectCallout">
            <a:avLst>
              <a:gd name="adj1" fmla="val 27782"/>
              <a:gd name="adj2" fmla="val 72791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堆填區為甚麼會飽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article-new_ds-photo_getty_article_241_201_dv118084_XS.jpg"/>
          <p:cNvPicPr/>
          <p:nvPr/>
        </p:nvPicPr>
        <p:blipFill>
          <a:blip r:embed="rId1"/>
          <a:stretch/>
        </p:blipFill>
        <p:spPr>
          <a:xfrm>
            <a:off x="4284720" y="1844640"/>
            <a:ext cx="417492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264-E173-44A6-87D7-36BAB250B62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41F6-FF09-4B7B-8A42-D43A0A54554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15"/>
          <p:cNvSpPr/>
          <p:nvPr/>
        </p:nvSpPr>
        <p:spPr>
          <a:xfrm>
            <a:off x="324000" y="1341360"/>
            <a:ext cx="6840360" cy="2374920"/>
          </a:xfrm>
          <a:prstGeom prst="cloudCallout">
            <a:avLst>
              <a:gd name="adj1" fmla="val 52509"/>
              <a:gd name="adj2" fmla="val 90851"/>
            </a:avLst>
          </a:prstGeom>
          <a:solidFill>
            <a:srgbClr val="ffff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我還很年輕，就這樣便被遺棄在堆填區了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難道我的一生就此終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內容版面配置區 5" descr="plastic2uuu.gif"/>
          <p:cNvPicPr/>
          <p:nvPr/>
        </p:nvPicPr>
        <p:blipFill>
          <a:blip r:embed="rId2"/>
          <a:srcRect l="0" t="2888" r="91253" b="13513"/>
          <a:stretch/>
        </p:blipFill>
        <p:spPr>
          <a:xfrm rot="2722200">
            <a:off x="6687360" y="4372560"/>
            <a:ext cx="846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：塑膠製品大召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70" name="Picture 5" descr="D:\Temp\Temporary Internet Files\Content.IE5\44RMH5NI\MC900365990[1].wmf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18316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341-1CB1-463D-82A0-EDC0DB3E98A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膠樽仔」說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1584360" cy="4838400"/>
          </a:xfrm>
          <a:prstGeom prst="rect">
            <a:avLst/>
          </a:prstGeom>
          <a:ln w="0">
            <a:noFill/>
          </a:ln>
        </p:spPr>
      </p:pic>
      <p:sp>
        <p:nvSpPr>
          <p:cNvPr id="176" name="圓角矩形圖說文字 5"/>
          <p:cNvSpPr/>
          <p:nvPr/>
        </p:nvSpPr>
        <p:spPr>
          <a:xfrm>
            <a:off x="2987640" y="1268280"/>
            <a:ext cx="5761080" cy="2952720"/>
          </a:xfrm>
          <a:prstGeom prst="wedgeRoundRectCallout">
            <a:avLst>
              <a:gd name="adj1" fmla="val -49898"/>
              <a:gd name="adj2" fmla="val 70546"/>
              <a:gd name="adj3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大家好，我是你們在超級市場最常見的膠樽，我的名字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Comic Sans MS"/>
              </a:rPr>
              <a:t>「膠樽仔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67F-F02E-473B-BB33-53D5D6B22E6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180" name="內容版面配置區 6" descr="plastic2.gif"/>
          <p:cNvPicPr/>
          <p:nvPr/>
        </p:nvPicPr>
        <p:blipFill>
          <a:blip r:embed="rId1"/>
          <a:stretch/>
        </p:blipFill>
        <p:spPr>
          <a:xfrm>
            <a:off x="826920" y="4292640"/>
            <a:ext cx="58579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875640" y="1700280"/>
            <a:ext cx="1584000" cy="4838760"/>
          </a:xfrm>
          <a:prstGeom prst="rect">
            <a:avLst/>
          </a:prstGeom>
          <a:ln w="0">
            <a:noFill/>
          </a:ln>
        </p:spPr>
      </p:pic>
      <p:sp>
        <p:nvSpPr>
          <p:cNvPr id="182" name="圓角矩形圖說文字 4"/>
          <p:cNvSpPr/>
          <p:nvPr/>
        </p:nvSpPr>
        <p:spPr>
          <a:xfrm>
            <a:off x="611280" y="260280"/>
            <a:ext cx="5761080" cy="3456000"/>
          </a:xfrm>
          <a:prstGeom prst="wedgeRoundRectCallout">
            <a:avLst>
              <a:gd name="adj1" fmla="val 52967"/>
              <a:gd name="adj2" fmla="val 71347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我是用塑膠製造的。我們的家族很大，兄弟姊妹差不多遍佈超級市場的每一個角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很多顧客都喜歡把我們帶回家。小朋友，你知道原因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DB8-8CF6-44DB-9BF0-8DD6A6AB562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A7E-71EB-4D00-AC23-909648ED521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5148360" y="4005360"/>
            <a:ext cx="3887640" cy="2808360"/>
            <a:chOff x="5148360" y="4005360"/>
            <a:chExt cx="3887640" cy="2808360"/>
          </a:xfrm>
        </p:grpSpPr>
        <p:pic>
          <p:nvPicPr>
            <p:cNvPr id="188" name="Picture 4" descr="Plastic-Shopping-Bags-Ban-in-LA.jpg"/>
            <p:cNvPicPr/>
            <p:nvPr/>
          </p:nvPicPr>
          <p:blipFill>
            <a:blip r:embed="rId1"/>
            <a:srcRect l="0" t="0" r="10048" b="0"/>
            <a:stretch/>
          </p:blipFill>
          <p:spPr>
            <a:xfrm>
              <a:off x="5148360" y="4005360"/>
              <a:ext cx="387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9"/>
            <p:cNvSpPr/>
            <p:nvPr/>
          </p:nvSpPr>
          <p:spPr>
            <a:xfrm>
              <a:off x="838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4"/>
          <p:cNvGrpSpPr/>
          <p:nvPr/>
        </p:nvGrpSpPr>
        <p:grpSpPr>
          <a:xfrm>
            <a:off x="142920" y="5013360"/>
            <a:ext cx="2413080" cy="1800360"/>
            <a:chOff x="142920" y="5013360"/>
            <a:chExt cx="2413080" cy="1800360"/>
          </a:xfrm>
        </p:grpSpPr>
        <p:pic>
          <p:nvPicPr>
            <p:cNvPr id="191" name="Picture 12" descr="imagesCAD5JHXO.jpg"/>
            <p:cNvPicPr/>
            <p:nvPr/>
          </p:nvPicPr>
          <p:blipFill>
            <a:blip r:embed="rId2"/>
            <a:stretch/>
          </p:blipFill>
          <p:spPr>
            <a:xfrm>
              <a:off x="142920" y="5013360"/>
              <a:ext cx="24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28"/>
            <p:cNvSpPr/>
            <p:nvPr/>
          </p:nvSpPr>
          <p:spPr>
            <a:xfrm>
              <a:off x="190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0"/>
          <p:cNvGrpSpPr/>
          <p:nvPr/>
        </p:nvGrpSpPr>
        <p:grpSpPr>
          <a:xfrm>
            <a:off x="2627280" y="5157720"/>
            <a:ext cx="2448000" cy="1584360"/>
            <a:chOff x="2627280" y="5157720"/>
            <a:chExt cx="2448000" cy="1584360"/>
          </a:xfrm>
        </p:grpSpPr>
        <p:pic>
          <p:nvPicPr>
            <p:cNvPr id="194" name="Picture 6" descr="plastic spoon and folk.jpg"/>
            <p:cNvPicPr/>
            <p:nvPr/>
          </p:nvPicPr>
          <p:blipFill>
            <a:blip r:embed="rId3"/>
            <a:srcRect l="0" t="12598" r="0" b="9284"/>
            <a:stretch/>
          </p:blipFill>
          <p:spPr>
            <a:xfrm>
              <a:off x="2627280" y="5157720"/>
              <a:ext cx="2448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3"/>
            <p:cNvSpPr/>
            <p:nvPr/>
          </p:nvSpPr>
          <p:spPr>
            <a:xfrm>
              <a:off x="3658320" y="6372360"/>
              <a:ext cx="455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9"/>
          <p:cNvGrpSpPr/>
          <p:nvPr/>
        </p:nvGrpSpPr>
        <p:grpSpPr>
          <a:xfrm>
            <a:off x="2843280" y="3284640"/>
            <a:ext cx="2952720" cy="1801800"/>
            <a:chOff x="2843280" y="3284640"/>
            <a:chExt cx="2952720" cy="1801800"/>
          </a:xfrm>
        </p:grpSpPr>
        <p:pic>
          <p:nvPicPr>
            <p:cNvPr id="197" name="Picture 8" descr="newspaper bag.jpg"/>
            <p:cNvPicPr/>
            <p:nvPr/>
          </p:nvPicPr>
          <p:blipFill>
            <a:blip r:embed="rId4"/>
            <a:srcRect l="0" t="15528" r="0" b="0"/>
            <a:stretch/>
          </p:blipFill>
          <p:spPr>
            <a:xfrm>
              <a:off x="2843280" y="3284640"/>
              <a:ext cx="29527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5"/>
            <p:cNvSpPr/>
            <p:nvPr/>
          </p:nvSpPr>
          <p:spPr>
            <a:xfrm>
              <a:off x="5148360" y="471492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1"/>
          <p:cNvGrpSpPr/>
          <p:nvPr/>
        </p:nvGrpSpPr>
        <p:grpSpPr>
          <a:xfrm>
            <a:off x="3564000" y="1268280"/>
            <a:ext cx="3095640" cy="1944720"/>
            <a:chOff x="3564000" y="1268280"/>
            <a:chExt cx="3095640" cy="1944720"/>
          </a:xfrm>
        </p:grpSpPr>
        <p:pic>
          <p:nvPicPr>
            <p:cNvPr id="200" name="Picture 10" descr="plastic-bottles-photo.jpg"/>
            <p:cNvPicPr/>
            <p:nvPr/>
          </p:nvPicPr>
          <p:blipFill>
            <a:blip r:embed="rId5"/>
            <a:stretch/>
          </p:blipFill>
          <p:spPr>
            <a:xfrm>
              <a:off x="3564000" y="1268280"/>
              <a:ext cx="3095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4"/>
            <p:cNvSpPr/>
            <p:nvPr/>
          </p:nvSpPr>
          <p:spPr>
            <a:xfrm>
              <a:off x="6012000" y="1268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2"/>
          <p:cNvGrpSpPr/>
          <p:nvPr/>
        </p:nvGrpSpPr>
        <p:grpSpPr>
          <a:xfrm>
            <a:off x="395280" y="1125360"/>
            <a:ext cx="3097080" cy="2087640"/>
            <a:chOff x="395280" y="1125360"/>
            <a:chExt cx="3097080" cy="2087640"/>
          </a:xfrm>
        </p:grpSpPr>
        <p:pic>
          <p:nvPicPr>
            <p:cNvPr id="203" name="Picture 5" descr="untitled - bakery.bmp"/>
            <p:cNvPicPr/>
            <p:nvPr/>
          </p:nvPicPr>
          <p:blipFill>
            <a:blip r:embed="rId6"/>
            <a:stretch/>
          </p:blipFill>
          <p:spPr>
            <a:xfrm>
              <a:off x="395280" y="1153080"/>
              <a:ext cx="3097080" cy="20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6"/>
            <p:cNvSpPr/>
            <p:nvPr/>
          </p:nvSpPr>
          <p:spPr>
            <a:xfrm>
              <a:off x="2844720" y="112536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3"/>
          <p:cNvGrpSpPr/>
          <p:nvPr/>
        </p:nvGrpSpPr>
        <p:grpSpPr>
          <a:xfrm>
            <a:off x="395280" y="3284640"/>
            <a:ext cx="2376360" cy="1663920"/>
            <a:chOff x="395280" y="3284640"/>
            <a:chExt cx="2376360" cy="1663920"/>
          </a:xfrm>
        </p:grpSpPr>
        <p:pic>
          <p:nvPicPr>
            <p:cNvPr id="206" name="Picture 13" descr="1248118969_0.jpg"/>
            <p:cNvPicPr/>
            <p:nvPr/>
          </p:nvPicPr>
          <p:blipFill>
            <a:blip r:embed="rId7"/>
            <a:srcRect l="0" t="3424" r="0" b="0"/>
            <a:stretch/>
          </p:blipFill>
          <p:spPr>
            <a:xfrm>
              <a:off x="405000" y="3284640"/>
              <a:ext cx="23666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27"/>
            <p:cNvSpPr/>
            <p:nvPr/>
          </p:nvSpPr>
          <p:spPr>
            <a:xfrm>
              <a:off x="395280" y="4580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2"/>
          <p:cNvGrpSpPr/>
          <p:nvPr/>
        </p:nvGrpSpPr>
        <p:grpSpPr>
          <a:xfrm>
            <a:off x="6804000" y="115920"/>
            <a:ext cx="1873440" cy="3817800"/>
            <a:chOff x="6804000" y="115920"/>
            <a:chExt cx="1873440" cy="3817800"/>
          </a:xfrm>
        </p:grpSpPr>
        <p:pic>
          <p:nvPicPr>
            <p:cNvPr id="209" name="Picture 11" descr="0718-00176-099b6ONTV.jpg"/>
            <p:cNvPicPr/>
            <p:nvPr/>
          </p:nvPicPr>
          <p:blipFill>
            <a:blip r:embed="rId8"/>
            <a:srcRect l="36589" t="0" r="0" b="19850"/>
            <a:stretch/>
          </p:blipFill>
          <p:spPr>
            <a:xfrm>
              <a:off x="6804000" y="115920"/>
              <a:ext cx="187344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0"/>
            <p:cNvSpPr/>
            <p:nvPr/>
          </p:nvSpPr>
          <p:spPr>
            <a:xfrm>
              <a:off x="8028000" y="356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6553440" cy="100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人們為何使用塑膠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Explosion 1 16"/>
          <p:cNvSpPr/>
          <p:nvPr/>
        </p:nvSpPr>
        <p:spPr>
          <a:xfrm rot="291000">
            <a:off x="4359240" y="2577960"/>
            <a:ext cx="3816360" cy="1941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17"/>
          <p:cNvSpPr/>
          <p:nvPr/>
        </p:nvSpPr>
        <p:spPr>
          <a:xfrm rot="21247800">
            <a:off x="1558800" y="4241880"/>
            <a:ext cx="3306960" cy="17892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即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2 18"/>
          <p:cNvSpPr/>
          <p:nvPr/>
        </p:nvSpPr>
        <p:spPr>
          <a:xfrm>
            <a:off x="5759280" y="4365720"/>
            <a:ext cx="3384720" cy="1655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貪方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xplosion 1 15"/>
          <p:cNvSpPr/>
          <p:nvPr/>
        </p:nvSpPr>
        <p:spPr>
          <a:xfrm rot="21248400">
            <a:off x="404280" y="2177640"/>
            <a:ext cx="3816360" cy="1800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過度包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二：為甚麼要送我到堆填區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218" name="Picture 2" descr="D:\Temp\Temporary Internet Files\Content.IE5\Q1PSUET3\MM900282747[1].gif"/>
          <p:cNvPicPr/>
          <p:nvPr/>
        </p:nvPicPr>
        <p:blipFill>
          <a:blip r:embed="rId1"/>
          <a:stretch/>
        </p:blipFill>
        <p:spPr>
          <a:xfrm>
            <a:off x="3995640" y="2997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73EC-5242-4362-A1ED-D291B894F05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800000" cy="549756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4"/>
          <p:cNvSpPr/>
          <p:nvPr/>
        </p:nvSpPr>
        <p:spPr>
          <a:xfrm>
            <a:off x="3059280" y="1413000"/>
            <a:ext cx="5545080" cy="3887640"/>
          </a:xfrm>
          <a:prstGeom prst="wedgeRoundRectCallout">
            <a:avLst>
              <a:gd name="adj1" fmla="val -61314"/>
              <a:gd name="adj2" fmla="val -3530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好，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自從我和一眾兄弟姊妹被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Comic Sans MS"/>
              </a:rPr>
              <a:t>小明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從超級市場買回家後，我便以為從此有安穩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怎料，不足一個星期，我們便被丟到垃圾桶，然後被送到堆填區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為甚麼要送我到堆填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116-4931-43EE-B6A6-9B3AF49D903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為甚麼要送我到堆填區？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39640" y="1341360"/>
            <a:ext cx="3745080" cy="2374920"/>
          </a:xfrm>
          <a:prstGeom prst="wedgeRoundRectCallout">
            <a:avLst>
              <a:gd name="adj1" fmla="val 22324"/>
              <a:gd name="adj2" fmla="val 66124"/>
              <a:gd name="adj3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桶在香港已經出現很久了，你知道塑膠廢物的回收率有多少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43280" y="1413000"/>
            <a:ext cx="4176720" cy="2520720"/>
          </a:xfrm>
          <a:prstGeom prst="wedgeRoundRectCallout">
            <a:avLst>
              <a:gd name="adj1" fmla="val -24796"/>
              <a:gd name="adj2" fmla="val 6075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我也不知道，小朋友，你們可以根據新聞資料，告訴我塑膠廢物回收的情況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2195640" y="426564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AC9-907C-43C2-A084-5241EA66D77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DEE-3601-4E3C-BA42-D457F056D31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itle 1"/>
          <p:cNvGrpSpPr/>
          <p:nvPr/>
        </p:nvGrpSpPr>
        <p:grpSpPr>
          <a:xfrm>
            <a:off x="407880" y="55440"/>
            <a:ext cx="3067200" cy="865440"/>
            <a:chOff x="407880" y="55440"/>
            <a:chExt cx="3067200" cy="865440"/>
          </a:xfrm>
        </p:grpSpPr>
        <p:pic>
          <p:nvPicPr>
            <p:cNvPr id="236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3067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68360" y="189000"/>
              <a:ext cx="295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500" spc="-1" strike="noStrike">
                  <a:solidFill>
                    <a:srgbClr val="000000"/>
                  </a:solidFill>
                  <a:latin typeface="Comic Sans MS"/>
                </a:rPr>
                <a:t>齊來讀報紙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Horizontal Scroll 3"/>
          <p:cNvSpPr/>
          <p:nvPr/>
        </p:nvSpPr>
        <p:spPr>
          <a:xfrm rot="16200000">
            <a:off x="1745280" y="-693000"/>
            <a:ext cx="5616720" cy="896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佐敦整條街無環保回收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街頭垃圾桶及回收桶比例嚴重失衡，平均每二十個垃圾桶才有一個回收桶，須行足半個運動場路程才見回收桶。在佐敦一處，六百八十米街道一個回收桶也沒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綠領行動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指出，塑膠廢物回收率極低，估算港府每日將總值逾六十萬元的可回收塑膠掉落堆填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體在多處進行調查，發現約五成人會將回收物（如紙巾、膠、紙及金屬等）直扔垃圾桶，卻甚少伸手拉開回收桶。環保人士指，回收桶的蓋沒有人清洗，十分骯髒，令人不想使用回收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另外，市民對回收塑膠意識不足，誤以為只得膠樽可回收，將多數可回收塑膠直扔垃圾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 flipV="1" rot="10800000">
            <a:off x="1619280" y="5985720"/>
            <a:ext cx="7129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太陽報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）（文章經過修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the-sun.on.cc/cnt/news/20120502/00407_023.html?pubdate=20120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D:\Temp\Temporary Internet Files\Content.IE5\HDXSWTAK\MC900442030[1].wmf"/>
          <p:cNvPicPr/>
          <p:nvPr/>
        </p:nvPicPr>
        <p:blipFill>
          <a:blip r:embed="rId3"/>
          <a:stretch/>
        </p:blipFill>
        <p:spPr>
          <a:xfrm>
            <a:off x="4932360" y="44280"/>
            <a:ext cx="1346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07:11Z</dcterms:modified>
  <cp:revision>133</cp:revision>
  <dc:subject/>
  <dc:title>課節二：為什麼要送我到堆填區？ </dc:title>
</cp:coreProperties>
</file>